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3FE-1E7B-4AB1-9199-8B1C9E7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C76-FD87-4827-81EB-08497E5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570-0124-41F3-BE7C-476FA201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E0B-53D9-4C8D-93F0-4C8C0037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3C2-06A6-4481-AD97-7404DEA6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18E-C237-45D9-8C00-3E874E19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27F-AF61-47FA-A1E9-C0CC347A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2E4-2EF3-431F-B53B-6F4B401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4DB-0454-43A8-A62E-9CBB0DEE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AE6-0F6E-45D7-B027-25E6D81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F0E-247B-440C-9006-12495CC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C94-57F0-4F1A-9460-4E31AA7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FE5-4E98-478A-94C3-E04E49DBA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hapter 3 Review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7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1040 form should each of the following individuals u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igh school student with an after-school job and interest earnings of $480 from savings accou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llege student who, because of ownership of property, is able to itemize deductions rather than take the standard de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oung, entry-level worker with no dependents and income only from sal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4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ax avoidance differ from tax eva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 avoida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use of legitimate methods to reduce one’s ta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 eva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use of illegal actions to reduce one’s ta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mon tax-saving methods are available to most individuals and househol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purchasing (place of residence, consumer debt, job-related expen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decisions (tax-exempt, tax-deferred, self-employment, children’s invest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plans (IRA, Roth IRA, Keogh plan, Education IRA, 401 (K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4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following tax situations, indicate if this item refers to tax-exempt income or tax-deferr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earned on municipal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Earnings on an individual retirement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defer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ducation IRA earnings used for college 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Income of U.S. citizens working in another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Vocabulary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gross income (AGI): </a:t>
            </a:r>
            <a:r>
              <a:rPr b="0" lang="en-US" sz="2400" spc="-1" strike="noStrike">
                <a:solidFill>
                  <a:srgbClr val="ffffff"/>
                </a:solidFill>
                <a:latin typeface="Frutiger-Roman"/>
              </a:rPr>
              <a:t>Gross income reduced by certain adjustments, such as contributions to an individual retirement (IRA) and alimony pay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ax rate: Total tax due divided by taxable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gains: Profits from the sale of a capital asset such as stocks, bonds, or real e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ned income: Money received for personal effort, such as wages, salary, commission, fees, tips, or bo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 tax: A tax imposed on the value of a person’s property at the time of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: A tax imposed on specific goods and services, such as gasoline, cigarettes, alcoholic beverages, tires,and air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More vocabulary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on: An amount not included in gross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mption: A deduction from adjusted gross income for yourself, your spouse, and qualified depen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: A tax levied on the value of property bequeathed by a deceased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income: Money received in the form of dividends, interest, or rent from investments; also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emized deductions: Expenses that can be deducted from adjusted gross income, such as medical expenses, real estate property taxes, home mortgage interest, charitable contributions, casualty losses, and certain work-related expe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Even more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tax rate: The rate used to calculate tax on the last (and next) dollar of taxable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income: Income resulting from business activities in which you do not actively partici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deduction: A set amount on which no taxes ar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able income: The net amount of income, after allowable deductions, on which income tax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audit: A detailed examination of your tax return by the Internal Revenu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And one last page…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avoidance: The use of legitimate methods to reduce one’s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credit: An amount subtracted directly from the amount of taxes ow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deduction: An amount subtracted from adjusted gross income to arrive at taxable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-deferred income: Income that will be taxed at a later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evasion: The use of illegal actions to reduce one’s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-exempt income: Income that is not subject to t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Objectives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chapter, you will lear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dentify the major taxes paid by people in ou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alculate taxable income and the amount owed for federal incom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repare a federal income tax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elect appropriate tax strategies for various life situ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1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four major categories of tax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purch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es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 (sin t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esta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1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the following situations, list the type of tax that is being describ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ax on the value of a person’s ho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additional charge for gasoline and air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Payroll deductions for federal government retirement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mount owed on property received from a deceased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Payroll deductions for a direct tax on 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2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ax-exempt income differ from tax-deferred inc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s may also be referred to 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-exempt incom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income that is not subject to tax. For example, interest earned on most state and city bonds is exempt from federal income tax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-deferred inco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ncome that will be taxed at a later d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uld you use the standard deduction instead of itemized dedu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would use a standard deduction if your itemized deduction is less than the standard de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your marginal tax rate and your average tax 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ginal tax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used to calculate tax on the last (and next) dollar of taxable income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ax r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based on the total tax due divided by taxable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2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of the following, indicate if the item is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x deduc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x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personal income taxes p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able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ca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at ways does your filing status affect preparation of your federal income tax retur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itizen or resident of the United States and every U.S. citizen who is a resident of Puerto Rico is required to file a federal income tax return if his or her income is above a certain amount. The amount is based on the person’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ing stat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other factors such as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in sources available to help people prepare their tax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RS, tax publications, the internet, tax prepa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ctions can reduce the chances of an IRS aud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 all tax-related information for easy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instructions carefully. • Use the proper tax rate schedule or tax table colum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claim the correct number of exemptions and correct amounts of standard dedu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arithmetic several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 your return (both spouses must sign a joint return), or the IRS won’t process it.  Be sure to include the correct Social Security number(s) and to record amounts on the corre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tinued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 necessary documentation such as your W-2 forms and required supporting sche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heck payable to “U.S. Treasury.”  Put your Social Security number, the tax year, and a daytime telephone number on your check—and be sure to sign the chec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photocopy of your ret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the proper postage on your mailing enve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, check everything again—and file on time! Care taken when you file your income tax can result in “many happy retur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6:45:59Z</dcterms:created>
  <dc:creator>nuhs</dc:creator>
  <dc:description/>
  <dc:language>en-US</dc:language>
  <cp:lastModifiedBy>nuhs</cp:lastModifiedBy>
  <dcterms:modified xsi:type="dcterms:W3CDTF">2008-02-27T19:57:49Z</dcterms:modified>
  <cp:revision>3</cp:revision>
  <dc:subject/>
  <dc:title>Chapter 3 Review</dc:title>
</cp:coreProperties>
</file>